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63CA-F6AE-43E7-ADE3-66518012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3662-99AE-4D69-9E75-21DB7FEC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8892-4BC0-447F-8655-9F996448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B965-5728-4168-907E-AC1AE549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EF2C-5C5D-4EFA-BA6B-F38CC89C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83C1-826C-4469-A0F9-66A15F26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71BC-69F7-4EDC-9A15-DDA20D26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27BA-245D-45E0-B3B8-146176E3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B9C5-E0A9-4080-9A10-E797846C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510C-8EE0-4AAB-8F59-34A079CB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12D4-73B6-4B60-8207-EB34B1A1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AF30-D06D-4A81-9E3E-BE3DF1A5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2298-369A-4B36-A65C-381F1D3E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D83F-BB5A-439E-8CD9-81FD6096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8D2B-E8FE-4841-BE28-44EEEF8A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37C4-A93E-4F7A-BE9A-1713899C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1052-70BF-4F0A-8094-7B7AFC0A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D969-3648-422E-BA3D-C587D0D9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BD51-53A9-4FBB-8C81-C69A753E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E653-0D5C-444E-BF62-43B556F3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7FA8-B00D-49EB-B400-714166CC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783A-02AC-4673-B5E8-E768E161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3834-0142-479E-AEDB-974E2729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B282-FDED-4A61-BAFD-1906B494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0033-B0E4-43C5-948D-E97FBAD79AA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E907-7F1A-4513-A008-45BE2E6CDA8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hschool.com/atschool/realidades/Activities/Chapter1L3/Chap1L30104.html" TargetMode="External"/><Relationship Id="rId2" Type="http://schemas.openxmlformats.org/officeDocument/2006/relationships/hyperlink" Target="http://www.quia.com/cb/94525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eterite Tense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att Wal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egan Wilbur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w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terite Ten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terite Tense is used to talk about actions that were completed in the pa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Example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took the train yesterda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levé el tren ay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-ar, -er, -ir Verb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ar verb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é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-a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a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-astei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ó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-ar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Hablar-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to spea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blé            hablam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blaste        hablaste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bló             hablaro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er/ir verb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í           -i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iste      -iste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ió         -ie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Corr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to ru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orrí          -corri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orriste     -corriste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orrió        -corr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rregul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r- to gi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di    -di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diste -diste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dio -die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cer- to mak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hice -hici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hiciste -hiciste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hizo -hicie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er- to se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vi     -vimo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viste   -vistei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vio   -vie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r- to go/Ser-to b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fui         -fui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fuiste    -fuiste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fue       -fue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-car, -gar, -zar verb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ly change in the yo for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scar- Yo busqu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ugar- Yo jugu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morzar- Yo almorc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*Remember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»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»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G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»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I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» 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er-to read    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í        leím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íste    leíste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yó      leye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er-to belie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í        creím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íste    creíste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yó       creye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actice This Stuff.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phschool.com/atschool/realidades/Activities/Chapter1L3/Chap1L30104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quia.com/cb/94525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4:56:28Z</dcterms:created>
  <dc:creator>Media &amp; Technology</dc:creator>
  <dc:description/>
  <dc:language>en-US</dc:language>
  <cp:lastModifiedBy>Media &amp; Technology</cp:lastModifiedBy>
  <dcterms:modified xsi:type="dcterms:W3CDTF">2010-01-11T16:06:34Z</dcterms:modified>
  <cp:revision>2</cp:revision>
  <dc:subject/>
  <dc:title>Preterite Tense </dc:title>
</cp:coreProperties>
</file>